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11.wmf" ContentType="image/x-wmf"/>
  <Override PartName="/ppt/media/image53.png" ContentType="image/png"/>
  <Override PartName="/ppt/media/image52.png" ContentType="image/png"/>
  <Override PartName="/ppt/media/image51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0.png" ContentType="image/png"/>
  <Override PartName="/ppt/media/image39.png" ContentType="image/png"/>
  <Override PartName="/ppt/media/image32.png" ContentType="image/png"/>
  <Override PartName="/ppt/media/image30.png" ContentType="image/png"/>
  <Override PartName="/ppt/media/image41.png" ContentType="image/png"/>
  <Override PartName="/ppt/media/image9.wmf" ContentType="image/x-wmf"/>
  <Override PartName="/ppt/media/image14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50.png" ContentType="image/png"/>
  <Override PartName="/ppt/media/image48.wmf" ContentType="image/x-wmf"/>
  <Override PartName="/ppt/media/image33.png" ContentType="image/png"/>
  <Override PartName="/ppt/media/image3.png" ContentType="image/png"/>
  <Override PartName="/ppt/media/image15.png" ContentType="image/png"/>
  <Override PartName="/ppt/media/image80.png" ContentType="image/png"/>
  <Override PartName="/ppt/media/image26.png" ContentType="image/png"/>
  <Override PartName="/ppt/media/image91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95.png" ContentType="image/png"/>
  <Override PartName="/ppt/media/image102.png" ContentType="image/png"/>
  <Override PartName="/ppt/media/image96.png" ContentType="image/png"/>
  <Override PartName="/ppt/media/image103.png" ContentType="image/png"/>
  <Override PartName="/ppt/media/image113.png" ContentType="image/png"/>
  <Override PartName="/ppt/media/image79.png" ContentType="image/png"/>
  <Override PartName="/ppt/media/image101.png" ContentType="image/png"/>
  <Override PartName="/ppt/media/image29.png" ContentType="image/png"/>
  <Override PartName="/ppt/media/image94.png" ContentType="image/png"/>
  <Override PartName="/ppt/media/image99.png" ContentType="image/png"/>
  <Override PartName="/ppt/media/image106.png" ContentType="image/png"/>
  <Override PartName="/ppt/media/image62.png" ContentType="image/png"/>
  <Override PartName="/ppt/media/image112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89.png" ContentType="image/png"/>
  <Override PartName="/ppt/media/image111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88.png" ContentType="image/png"/>
  <Override PartName="/ppt/media/image108.png" ContentType="image/png"/>
  <Override PartName="/ppt/media/image64.png" ContentType="image/png"/>
  <Override PartName="/ppt/media/image86.png" ContentType="image/png"/>
  <Override PartName="/ppt/media/image69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3.png" ContentType="image/png"/>
  <Override PartName="/ppt/media/image25.png" ContentType="image/png"/>
  <Override PartName="/ppt/media/image90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2.wmf" ContentType="image/x-wmf"/>
  <Override PartName="/ppt/media/image57.png" ContentType="image/png"/>
  <Override PartName="/ppt/media/image27.png" ContentType="image/png"/>
  <Override PartName="/ppt/media/image92.png" ContentType="image/png"/>
  <Override PartName="/ppt/media/image16.png" ContentType="image/png"/>
  <Override PartName="/ppt/media/image81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2E40-80E9-4438-94C8-5AB136583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19F6-8CF5-4878-AB31-5E6FD197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2B34-983B-4ECD-94B1-AA37E384B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788F-D595-498A-9DB2-36A674263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28F6-95C6-49CB-B862-B25BFC4F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EFE3-3797-4CBB-A77C-B21BF4AB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B2C7-D1CD-4EAF-BEB0-C130EBA5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EB99-B66F-480C-BD3F-5FF30EA2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F955-9297-4F8D-8431-0343A4A9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8BC1-3FE6-42B3-8B5D-BF9BA49F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C011-FB8D-4727-B68F-83F05908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EBD1-03A1-4F56-BF9F-138EDD5E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399D-C04C-4470-B3AF-EC31FB6B1A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57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77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image" Target="../media/image87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image" Target="../media/image95.png"/><Relationship Id="rId3" Type="http://schemas.openxmlformats.org/officeDocument/2006/relationships/image" Target="../media/image96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97.png"/><Relationship Id="rId3" Type="http://schemas.openxmlformats.org/officeDocument/2006/relationships/image" Target="../media/image98.pn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image" Target="../media/image101.png"/><Relationship Id="rId3" Type="http://schemas.openxmlformats.org/officeDocument/2006/relationships/image" Target="../media/image102.png"/><Relationship Id="rId4" Type="http://schemas.openxmlformats.org/officeDocument/2006/relationships/image" Target="../media/image103.pn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105.png"/><Relationship Id="rId3" Type="http://schemas.openxmlformats.org/officeDocument/2006/relationships/image" Target="../media/image10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107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09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11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12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we have now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8800"/>
          <a:ext cx="7620120" cy="341316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1904760"/>
                <a:gridCol w="1905120"/>
              </a:tblGrid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sc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a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u monolay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u multilay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276720" y="2666880"/>
            <a:ext cx="609480" cy="609840"/>
          </a:xfrm>
          <a:prstGeom prst="sun">
            <a:avLst>
              <a:gd name="adj" fmla="val 25000"/>
            </a:avLst>
          </a:prstGeom>
          <a:solidFill>
            <a:srgbClr val="ff66ff">
              <a:alpha val="41000"/>
            </a:srgbClr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76720" y="3505320"/>
            <a:ext cx="609480" cy="609480"/>
          </a:xfrm>
          <a:prstGeom prst="sun">
            <a:avLst>
              <a:gd name="adj" fmla="val 25000"/>
            </a:avLst>
          </a:prstGeom>
          <a:solidFill>
            <a:srgbClr val="ff66ff">
              <a:alpha val="41000"/>
            </a:srgbClr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4419720"/>
            <a:ext cx="609480" cy="609480"/>
          </a:xfrm>
          <a:prstGeom prst="sun">
            <a:avLst>
              <a:gd name="adj" fmla="val 25000"/>
            </a:avLst>
          </a:prstGeom>
          <a:solidFill>
            <a:srgbClr val="ff66ff">
              <a:alpha val="41000"/>
            </a:srgbClr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257800" y="3505320"/>
            <a:ext cx="609480" cy="609480"/>
          </a:xfrm>
          <a:prstGeom prst="sun">
            <a:avLst>
              <a:gd name="adj" fmla="val 25000"/>
            </a:avLst>
          </a:prstGeom>
          <a:solidFill>
            <a:srgbClr val="ff66ff">
              <a:alpha val="41000"/>
            </a:srgbClr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57800" y="4419720"/>
            <a:ext cx="609480" cy="609480"/>
          </a:xfrm>
          <a:prstGeom prst="sun">
            <a:avLst>
              <a:gd name="adj" fmla="val 25000"/>
            </a:avLst>
          </a:prstGeom>
          <a:solidFill>
            <a:srgbClr val="ff66ff">
              <a:alpha val="41000"/>
            </a:srgbClr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15200" y="2666880"/>
            <a:ext cx="609480" cy="609840"/>
          </a:xfrm>
          <a:prstGeom prst="sun">
            <a:avLst>
              <a:gd name="adj" fmla="val 25000"/>
            </a:avLst>
          </a:prstGeom>
          <a:solidFill>
            <a:srgbClr val="ff66ff">
              <a:alpha val="41000"/>
            </a:srgbClr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609480" cy="609480"/>
          </a:xfrm>
          <a:prstGeom prst="sun">
            <a:avLst>
              <a:gd name="adj" fmla="val 25000"/>
            </a:avLst>
          </a:prstGeom>
          <a:solidFill>
            <a:srgbClr val="ff66ff">
              <a:alpha val="41000"/>
            </a:srgbClr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34120" y="27432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315200" y="44956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23800" y="1341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5486400"/>
            <a:ext cx="815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The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Born Approximation model , Parratt’s theory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Sinha’s DWBA (including calculation for Yoneda w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rface tension fitting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with fixed slit0.52,1,8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6019920"/>
            <a:ext cx="7391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fitted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=45 mN/m  (between water 72  &amp; Heptane ~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920" y="1171440"/>
            <a:ext cx="41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monoAu ‘217-', sli=[11,3],bac=0.5 ,Qz=0.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93424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920" y="714240"/>
            <a:ext cx="41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monoAu ‘313-', sli=[11,3],bac=0.5 ,Qz=0.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5638680"/>
            <a:ext cx="7391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fitted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=45 mN/m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324480" cy="48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73760" y="714240"/>
            <a:ext cx="41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monoAu ‘299-', sli=[11,3],bac=0.5 ,Qz=0.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5638680"/>
            <a:ext cx="7391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fitted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=48 mN/m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6324840" cy="48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6705720" cy="5113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rot="514200">
            <a:off x="2895480" y="3428640"/>
            <a:ext cx="174600" cy="2286000"/>
          </a:xfrm>
          <a:prstGeom prst="downArrow">
            <a:avLst>
              <a:gd name="adj1" fmla="val 50000"/>
              <a:gd name="adj2" fmla="val 327320"/>
            </a:avLst>
          </a:prstGeom>
          <a:solidFill>
            <a:srgbClr val="0000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81080" y="5943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5638680"/>
            <a:ext cx="336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Due to the surface ten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difference between water and solvent for nanopartic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20908800">
            <a:off x="6249600" y="3610080"/>
            <a:ext cx="838080" cy="155520"/>
          </a:xfrm>
          <a:prstGeom prst="rightArrow">
            <a:avLst>
              <a:gd name="adj1" fmla="val 50000"/>
              <a:gd name="adj2" fmla="val 134722"/>
            </a:avLst>
          </a:prstGeom>
          <a:solidFill>
            <a:srgbClr val="0000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038480" y="3276720"/>
            <a:ext cx="2210040" cy="1066680"/>
          </a:xfrm>
          <a:prstGeom prst="ellipse">
            <a:avLst/>
          </a:prstGeom>
          <a:solidFill>
            <a:srgbClr val="0000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238880" y="3124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86640" y="2743200"/>
            <a:ext cx="2457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Contains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about  the 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and structur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Au nanoparticle film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Are we able to fit this part by modifying our cod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5867280"/>
            <a:ext cx="762120" cy="486000"/>
          </a:xfrm>
          <a:prstGeom prst="rightArrow">
            <a:avLst>
              <a:gd name="adj1" fmla="val 50000"/>
              <a:gd name="adj2" fmla="val 39204"/>
            </a:avLst>
          </a:prstGeom>
          <a:solidFill>
            <a:srgbClr val="0000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76920" y="5638680"/>
            <a:ext cx="314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ould we compare it to thin solvent material film on water surfa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21120600">
            <a:off x="5411880" y="1092240"/>
            <a:ext cx="1447560" cy="181080"/>
          </a:xfrm>
          <a:prstGeom prst="rightArrow">
            <a:avLst>
              <a:gd name="adj1" fmla="val 50000"/>
              <a:gd name="adj2" fmla="val 199851"/>
            </a:avLst>
          </a:prstGeom>
          <a:solidFill>
            <a:srgbClr val="ffff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67080" y="914400"/>
            <a:ext cx="1295640" cy="762120"/>
          </a:xfrm>
          <a:prstGeom prst="ellipse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652440" y="762120"/>
            <a:ext cx="256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n we make s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re unifor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roducib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fter compressio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compared to uncompressed resul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98108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Au 331,Qz=0.22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red-- fitted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=31 mN/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blue-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- uncompressed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=45 mN/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510552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Au 345 Qz=0.44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red--fitted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=38 mN/m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blue—uncompressed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=48 mN/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0" y="1752480"/>
            <a:ext cx="4257720" cy="3372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28600" y="2895480"/>
            <a:ext cx="441972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6095880" cy="4707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049760" y="5334120"/>
            <a:ext cx="72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How does the compression lower surface tention of this syst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Through increasing thickness of the solvent or increasing den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of nanoparticle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Surface tension of Heptane</a:t>
            </a:r>
            <a:br>
              <a:rPr sz="4000"/>
            </a:b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N/m-1 ±0.02 mN/m-1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89080" y="2666880"/>
            <a:ext cx="88549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086600" cy="62802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Qz=0.22, k-scan2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3352680" cy="2872080"/>
          </a:xfrm>
          <a:prstGeom prst="rect">
            <a:avLst/>
          </a:prstGeom>
          <a:ln w="19080">
            <a:solidFill>
              <a:srgbClr val="ff6600"/>
            </a:solidFill>
            <a:miter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858000" y="2133720"/>
            <a:ext cx="1649520" cy="3047760"/>
          </a:xfrm>
          <a:prstGeom prst="rect">
            <a:avLst/>
          </a:prstGeom>
          <a:ln w="19080">
            <a:solidFill>
              <a:srgbClr val="ff6600"/>
            </a:solidFill>
            <a:miter/>
          </a:ln>
        </p:spPr>
      </p:pic>
      <p:sp>
        <p:nvSpPr>
          <p:cNvPr id="134" name=""/>
          <p:cNvSpPr/>
          <p:nvPr/>
        </p:nvSpPr>
        <p:spPr>
          <a:xfrm rot="19965600">
            <a:off x="2895120" y="3428640"/>
            <a:ext cx="304920" cy="976320"/>
          </a:xfrm>
          <a:prstGeom prst="upArrow">
            <a:avLst>
              <a:gd name="adj1" fmla="val 50000"/>
              <a:gd name="adj2" fmla="val 8004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21036000">
            <a:off x="5715000" y="4419720"/>
            <a:ext cx="976320" cy="333360"/>
          </a:xfrm>
          <a:prstGeom prst="rightArrow">
            <a:avLst>
              <a:gd name="adj1" fmla="val 50000"/>
              <a:gd name="adj2" fmla="val 73218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4114800"/>
            <a:ext cx="1600200" cy="106668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809880"/>
            <a:ext cx="762120" cy="129564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6553440" cy="59086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Qz=0.33,k-scan3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838080" y="990720"/>
            <a:ext cx="2895840" cy="232704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sp>
        <p:nvSpPr>
          <p:cNvPr id="141" name=""/>
          <p:cNvSpPr/>
          <p:nvPr/>
        </p:nvSpPr>
        <p:spPr>
          <a:xfrm rot="19299000">
            <a:off x="3504960" y="3200040"/>
            <a:ext cx="228600" cy="976320"/>
          </a:xfrm>
          <a:prstGeom prst="upArrow">
            <a:avLst>
              <a:gd name="adj1" fmla="val 50000"/>
              <a:gd name="adj2" fmla="val 106772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391520" y="1828800"/>
            <a:ext cx="1573200" cy="259092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sp>
        <p:nvSpPr>
          <p:cNvPr id="143" name=""/>
          <p:cNvSpPr/>
          <p:nvPr/>
        </p:nvSpPr>
        <p:spPr>
          <a:xfrm rot="20239200">
            <a:off x="6172200" y="4038480"/>
            <a:ext cx="1082520" cy="206640"/>
          </a:xfrm>
          <a:prstGeom prst="rightArrow">
            <a:avLst>
              <a:gd name="adj1" fmla="val 50000"/>
              <a:gd name="adj2" fmla="val 1309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81280" y="4114800"/>
            <a:ext cx="990720" cy="76212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86400" y="4114800"/>
            <a:ext cx="685800" cy="99072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295280" y="1112760"/>
            <a:ext cx="6820200" cy="57452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z-0.44,k-scan2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914400" y="762120"/>
            <a:ext cx="2362320" cy="213516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sp>
        <p:nvSpPr>
          <p:cNvPr id="149" name=""/>
          <p:cNvSpPr/>
          <p:nvPr/>
        </p:nvSpPr>
        <p:spPr>
          <a:xfrm>
            <a:off x="4038480" y="3352680"/>
            <a:ext cx="685800" cy="60984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8644400">
            <a:off x="3231360" y="2559600"/>
            <a:ext cx="304920" cy="976320"/>
          </a:xfrm>
          <a:prstGeom prst="upArrow">
            <a:avLst>
              <a:gd name="adj1" fmla="val 50000"/>
              <a:gd name="adj2" fmla="val 8004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934320" y="2895480"/>
            <a:ext cx="1925640" cy="251460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4876920" y="3429000"/>
            <a:ext cx="457200" cy="60948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86400" y="3657600"/>
            <a:ext cx="1281240" cy="228600"/>
          </a:xfrm>
          <a:prstGeom prst="rightArrow">
            <a:avLst>
              <a:gd name="adj1" fmla="val 50000"/>
              <a:gd name="adj2" fmla="val 140118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rule we and our codes follow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066680" y="3429000"/>
          <a:ext cx="6966000" cy="137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29000"/>
                    <a:ext cx="696600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84760" y="2743200"/>
            <a:ext cx="419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perimental measured intens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3733920"/>
            <a:ext cx="2590560" cy="1371600"/>
          </a:xfrm>
          <a:prstGeom prst="downArrowCallout">
            <a:avLst>
              <a:gd name="adj1" fmla="val 47222"/>
              <a:gd name="adj2" fmla="val 47218"/>
              <a:gd name="adj3" fmla="val 16667"/>
              <a:gd name="adj4" fmla="val 66667"/>
            </a:avLst>
          </a:prstGeom>
          <a:solidFill>
            <a:srgbClr val="ccffff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1680" y="5334120"/>
            <a:ext cx="23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Constant for K-sca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(constant q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5880" y="3429000"/>
            <a:ext cx="609840" cy="685800"/>
          </a:xfrm>
          <a:prstGeom prst="upArrowCallout">
            <a:avLst>
              <a:gd name="adj1" fmla="val 25002"/>
              <a:gd name="adj2" fmla="val 25000"/>
              <a:gd name="adj3" fmla="val 18743"/>
              <a:gd name="adj4" fmla="val 66660"/>
            </a:avLst>
          </a:prstGeom>
          <a:solidFill>
            <a:srgbClr val="ccffff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85240" y="2819520"/>
            <a:ext cx="201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Depends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surface tension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γ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576200">
            <a:off x="4571640" y="4800240"/>
            <a:ext cx="976320" cy="380880"/>
          </a:xfrm>
          <a:prstGeom prst="rightArrow">
            <a:avLst>
              <a:gd name="adj1" fmla="val 50000"/>
              <a:gd name="adj2" fmla="val 64083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44720" y="5257800"/>
            <a:ext cx="250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olution function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ery importan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04920" y="1219320"/>
            <a:ext cx="845820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am vert. size D=0.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5657760" cy="4518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523880" y="1143000"/>
            <a:ext cx="6100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m vert. size D=0.04mm, slit=[11,3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can217,Qz=0.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85800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=0.12mm, slit=[11,3], Kscan313,Qz=0.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600200" y="990720"/>
            <a:ext cx="571500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=0.12mm, slit=[11,3] ,Kscan299,Qz=0.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28800" y="1400040"/>
            <a:ext cx="556272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Water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sample 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:k scan 133-139,Qz=0.22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1=[1,0.04]mm,slit=[11,3]pixels,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γ=72,65,60mN/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629400" cy="51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Water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sample 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:  k scan 71-77,Qz=0.33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1=[1,0.06]mm, slit=[11,3]pixels,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γ=72,65,60mN/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162920" cy="53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Water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sample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:k scan 79-106,Qz=0.44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1=[1,0.06]mm, slit=[11,3]pixels,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γ=72mN/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6553080" cy="4950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572000" y="1447920"/>
            <a:ext cx="442908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ater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sample 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: k scan 133-139,Qz=0.22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1=[1,0.04]mm,slit=[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2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3]pixels,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γ=72,65,60mN/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6210360" cy="4699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3976560"/>
            <a:ext cx="388620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ater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sample 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: k scan 71-77,Qz=0.33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1=[1,0.06]mm,slit=[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2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3]pixels,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γ=72,65,60mN/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7010280" cy="51800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3954600"/>
            <a:ext cx="388620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Water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sample 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: k scan 79-106,Qz=0.44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1=[1,0.06]mm,slit=[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3]pixels,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γ=72,65,60mN/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367000" y="1523880"/>
            <a:ext cx="6777000" cy="51087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3776760"/>
            <a:ext cx="419112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u monolayer reflectivity fit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4724280" cy="4194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91120" y="1371600"/>
            <a:ext cx="4314600" cy="35244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190480" y="4952880"/>
            <a:ext cx="385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With our fitting code,we’re 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to fit the reflectivity very well 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for Au multilayer,but always g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negative density part due to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broadening of error fun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u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sample 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: k scan 217-241,Qz=0.22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1=[1,0.04]mm,slit=[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3]pixels,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γ=45mN/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295280" y="1717560"/>
            <a:ext cx="672012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in horizontal electronic sli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ample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k scan 133-139,Qz=0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629400" cy="49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in vertical electronic sli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ample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k scan 133-139,Qz=0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33520" y="1647720"/>
            <a:ext cx="7162560" cy="52102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7467480" y="2057400"/>
            <a:ext cx="114012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Water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sample 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: k scan 133-139,Qz=0.22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1=[1,0.04]mm,slit=[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3]pixels,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γ=72mN/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1629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Water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sample 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: k scan 71-77,Qz=0.33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1=[1,0.06]mm,slit=[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3]pixels,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γ=72N/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16292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Water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sample 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: k scan 79-106,Qz=0.44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1=[1,0.1]mm,slit=[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3]pixels,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γ=72mN/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1629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-169920"/>
            <a:ext cx="5295960" cy="70279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334120" y="609480"/>
            <a:ext cx="3504960" cy="25797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5181480" y="3505320"/>
            <a:ext cx="336240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693432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u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sample 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: k scan 217-241,Qz=0.22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1=[1,0.04]mm,slit=[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3]pixels,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γ=45mN/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1835280"/>
            <a:ext cx="6324480" cy="48146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638680" y="1600200"/>
            <a:ext cx="32767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3886200" cy="30052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648320" y="304920"/>
            <a:ext cx="4038480" cy="30225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380880" y="3429000"/>
            <a:ext cx="3886200" cy="29462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4648320" y="3429000"/>
            <a:ext cx="396216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6019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Fitting resolution function(fixed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γ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=72 mN/m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Blue – fixed Vert. Slit(0.52mm),Hori. Slit(1.89mm) (sli=[11,3])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Red – fitted Vert. Slit(0.53mm),</a:t>
            </a:r>
            <a:r>
              <a:rPr b="0" lang="zh-CN" sz="2000" spc="-1" strike="noStrike">
                <a:solidFill>
                  <a:srgbClr val="ff0000"/>
                </a:solidFill>
                <a:latin typeface="Comic Sans MS"/>
              </a:rPr>
              <a:t>Hori. Slit(3.59mm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9800" y="1143000"/>
            <a:ext cx="284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Water kscan '63-69‘ Qz=0.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5638680" cy="4438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876920" y="1066680"/>
            <a:ext cx="4038480" cy="2801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617520" y="4729320"/>
            <a:ext cx="2453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ven water can n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 reproduced w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due to tempera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ange or pollution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001000" y="3809880"/>
            <a:ext cx="380880" cy="838440"/>
          </a:xfrm>
          <a:prstGeom prst="upArrow">
            <a:avLst>
              <a:gd name="adj1" fmla="val 50000"/>
              <a:gd name="adj2" fmla="val 5503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1440" y="311040"/>
            <a:ext cx="66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olution function calculated from slits si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eds to be correc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ct2008 sample 2,Au monolayer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scan Qz=0.22(#217),0.33(#313),0.44(#299)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li=[11,3]pix,s1=[1,0.04/0.12]mm,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γ=45mN/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3886200" cy="29588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495680" y="990720"/>
            <a:ext cx="3962520" cy="30477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6781680" y="1676520"/>
            <a:ext cx="1447920" cy="609480"/>
          </a:xfrm>
          <a:prstGeom prst="ellipse">
            <a:avLst/>
          </a:prstGeom>
          <a:solidFill>
            <a:srgbClr val="ff66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380880" y="3940200"/>
            <a:ext cx="3962520" cy="29178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4648320" y="4086360"/>
            <a:ext cx="373356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ug2008 sample 1, Au monolayer reflectivity fitting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right figure shows the corresponding electron density profile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moothing parameter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=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876920" y="2514600"/>
            <a:ext cx="4038480" cy="30225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762120" y="2590920"/>
            <a:ext cx="3886200" cy="30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ug2008 sample 1, Au monolayer beta-scan(#91-95)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hanging smoothing parameter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=6(top)</a:t>
            </a:r>
            <a:r>
              <a:rPr b="0" lang="zh-CN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3(bottom)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right panel shows the corresponding electron density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419720" y="1523880"/>
            <a:ext cx="2590560" cy="19954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495680" y="4343400"/>
            <a:ext cx="2667240" cy="21240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838080" y="1371600"/>
            <a:ext cx="3657600" cy="27115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838080" y="4086360"/>
            <a:ext cx="373392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3809880" cy="2948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876920" y="1600200"/>
            <a:ext cx="3429000" cy="25970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09480" y="42696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ug2008 sample 1, Au monolayer beta-scan(#91-95)</a:t>
            </a:r>
            <a:br>
              <a:rPr sz="2000"/>
            </a:b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=1.866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moothing parameter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=3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right panel shows the difference between data and fitting (data/fit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2971800" y="4245120"/>
            <a:ext cx="342900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a-scan peak vicinity surface tension 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6081840" cy="49752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648320" y="990720"/>
            <a:ext cx="44956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7772400" cy="62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3733920" cy="28576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724280" y="1676520"/>
            <a:ext cx="3429000" cy="2579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ug2008 sample 1, Au monolayer beta-scan(#97-101)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=2.488,smoothing parameter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=3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right panel shows the difference between data and fitting (data/fit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2743200" y="4079880"/>
            <a:ext cx="372888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276720" cy="24354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0" y="1447920"/>
            <a:ext cx="4267080" cy="31446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2666880" y="3821040"/>
            <a:ext cx="4067280" cy="30369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ug2008 sample 1, Au monolayer beta-scan(#102-111)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=3.111,smoothing parameter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=3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right panel shows the difference between data and fitting (data/fit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762120" y="1236600"/>
            <a:ext cx="7543800" cy="56214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09480" y="42696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ug2008 sample 1, Au monolayer beta-scan(#91-95)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hanging smoothing parameter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=3</a:t>
            </a:r>
            <a:r>
              <a:rPr b="0" lang="zh-CN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 2.8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The decay curves show the beta-scan fitting without structure f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ug2008 sample 3, Au multilayer beta-scan(#251-254)</a:t>
            </a:r>
            <a:br>
              <a:rPr sz="2000"/>
            </a:b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=1.696,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=72(cyan),60(red) mN/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1749600"/>
            <a:ext cx="6777000" cy="5108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6934320" y="2895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720" y="3048120"/>
            <a:ext cx="184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ak in a b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’t fi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97180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ff99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14400" y="571500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tting resolution function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lue – fixed Vert. Slit(0.52mm),Hori. Slit(1.89mm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d – fitted Vert. Slit(0.52mm),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Hori. Slit(3.61mm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1440" y="838080"/>
            <a:ext cx="406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Water '71-77', sli=[11,3],bac=0.5 ,Qz=0.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51080" y="4348080"/>
            <a:ext cx="240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Unknown pea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presents at Q~0.073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The position doesn’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change with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γ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6172200" cy="4573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 flipV="1" rot="591600">
            <a:off x="5187600" y="4647240"/>
            <a:ext cx="1523880" cy="152280"/>
          </a:xfrm>
          <a:prstGeom prst="leftArrow">
            <a:avLst>
              <a:gd name="adj1" fmla="val 50000"/>
              <a:gd name="adj2" fmla="val 250177"/>
            </a:avLst>
          </a:prstGeom>
          <a:solidFill>
            <a:srgbClr val="ffff0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ug2008 sample 3, Au multilayer beta-scan(#255-260)</a:t>
            </a:r>
            <a:br>
              <a:rPr sz="2000"/>
            </a:b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=2.262,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=45(blue),60(red) mN/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2971800" y="2057400"/>
            <a:ext cx="6172200" cy="46054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1447920"/>
            <a:ext cx="4191120" cy="34146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143000" y="2590920"/>
            <a:ext cx="2362320" cy="1371600"/>
          </a:xfrm>
          <a:prstGeom prst="ellipse">
            <a:avLst/>
          </a:prstGeom>
          <a:solidFill>
            <a:srgbClr val="ffcc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58000" y="3352680"/>
            <a:ext cx="1219320" cy="838440"/>
          </a:xfrm>
          <a:prstGeom prst="ellipse">
            <a:avLst/>
          </a:prstGeom>
          <a:solidFill>
            <a:srgbClr val="ffcc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20178600">
            <a:off x="2590560" y="4724280"/>
            <a:ext cx="4038480" cy="258840"/>
          </a:xfrm>
          <a:prstGeom prst="leftArrow">
            <a:avLst>
              <a:gd name="adj1" fmla="val 50000"/>
              <a:gd name="adj2" fmla="val 390056"/>
            </a:avLst>
          </a:prstGeom>
          <a:solidFill>
            <a:srgbClr val="ffcc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057400" y="419112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ffcc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5334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20" y="5334120"/>
            <a:ext cx="348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When the specular peak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merged in a bump of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factor, it’s difficult to fit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vicinity of the pe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ug2008 sample 3, Au multilayer beta-scan(#261-270)</a:t>
            </a:r>
            <a:br>
              <a:rPr sz="2000"/>
            </a:b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=2.8282,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=40(magenta),45(blue),60(red) mN/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362320" y="1763640"/>
            <a:ext cx="6781680" cy="50943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4305600" cy="34671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228600" y="1371600"/>
            <a:ext cx="4429080" cy="34005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3124080"/>
            <a:ext cx="1295640" cy="838440"/>
          </a:xfrm>
          <a:prstGeom prst="ellipse">
            <a:avLst/>
          </a:prstGeom>
          <a:solidFill>
            <a:srgbClr val="ffcc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ug2008 sample 3, Au multilayer beta-scan(#286-305)</a:t>
            </a:r>
            <a:br>
              <a:rPr sz="2000"/>
            </a:b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=3.394,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=45(blue),60(red) mN/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295280" y="1152360"/>
            <a:ext cx="7543800" cy="57056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0" y="1219320"/>
            <a:ext cx="4286160" cy="34383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5257800" y="4361040"/>
            <a:ext cx="342900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676520" y="1576440"/>
            <a:ext cx="7162560" cy="52815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609480" y="42696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ug2008 sample 1, Au monolayer beta-scan(#91-95)</a:t>
            </a:r>
            <a:br>
              <a:rPr sz="2000"/>
            </a:b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=1.866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moothing parameter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=3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457200" y="2590920"/>
            <a:ext cx="48769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6743880" cy="53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648320" y="3581280"/>
            <a:ext cx="4057560" cy="30117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304920" y="3657600"/>
            <a:ext cx="3886200" cy="28623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4572000" y="457200"/>
            <a:ext cx="4038480" cy="30463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228600" y="533520"/>
            <a:ext cx="3886200" cy="30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57200" y="3995640"/>
            <a:ext cx="3886200" cy="28623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609480" y="914400"/>
            <a:ext cx="3810240" cy="28656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4724280" y="2438280"/>
            <a:ext cx="363852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6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3657600" cy="28004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304920" y="784080"/>
            <a:ext cx="3581280" cy="27259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4343400" y="1143000"/>
            <a:ext cx="4038480" cy="30924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5334120" y="4319640"/>
            <a:ext cx="33526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228600" y="3962520"/>
            <a:ext cx="3657600" cy="27194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3505320" cy="26892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4191120" y="2209680"/>
            <a:ext cx="4010040" cy="29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21360" y="685800"/>
            <a:ext cx="41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Water '79-106', sli=[11,3],bac=0.5 ,Qz=0.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571500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The slit size Vert.=0.52 Hori.=1.89 could fit the data perfectly.No cerrection to resolution function.And slit(0.52,</a:t>
            </a:r>
            <a:r>
              <a:rPr b="0" lang="zh-CN" sz="2000" spc="-1" strike="noStrike">
                <a:solidFill>
                  <a:srgbClr val="ff0000"/>
                </a:solidFill>
                <a:latin typeface="Comic Sans MS"/>
              </a:rPr>
              <a:t>3.60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) seems also work not b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315200" y="2209680"/>
            <a:ext cx="1144440" cy="25146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162920" y="4876920"/>
            <a:ext cx="143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ed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gure ou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6400800" cy="48182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rot="20638800">
            <a:off x="5105520" y="3885840"/>
            <a:ext cx="2279520" cy="198360"/>
          </a:xfrm>
          <a:prstGeom prst="rightArrow">
            <a:avLst>
              <a:gd name="adj1" fmla="val 50000"/>
              <a:gd name="adj2" fmla="val 2872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305240" cy="32479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685800" y="3733920"/>
            <a:ext cx="4038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457200" y="878040"/>
            <a:ext cx="8001000" cy="59799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09480" y="42696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ct2008 purple---sample2(mono) scan#217,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blue ---sample4(multi) scan#469 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red ---sample5(multi) scan#5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746748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381880" cy="63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81880" cy="62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38188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620568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876560" y="18288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 we need to corr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r resolution fun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om slit (0.52,1.89)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lit (0.52,3.6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s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220320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Big problem: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Ununiformity of sample (beam damage?)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&amp; Lack of reproduc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2666880"/>
            <a:ext cx="2895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Three data sets for Qz=0.22 are different from each other –monolayer is not reproducible…</a:t>
            </a:r>
            <a:br>
              <a:rPr sz="2000"/>
            </a:b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black—148(w/thoils ),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red—217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blue– 2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525780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rface tension rule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6520" y="1219320"/>
            <a:ext cx="41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monoAu ‘217-', sli=[11,3],bac=0.5 ,Qz=0.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6019920"/>
            <a:ext cx="7543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Highly depends on surface tension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blue--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=18 (~heptane)   magenta–-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=30   red–-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=72(wa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563868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ling</cp:lastModifiedBy>
  <dcterms:modified xsi:type="dcterms:W3CDTF">2009-06-24T00:28:13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